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BE6-0186-451A-A070-C31199FF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1EB-D81D-40E4-85A1-2AB2A9F2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6B6-9F40-4C80-AD4A-9348A82C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3D7-C0F3-4436-A94F-D00541A2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6B2-46D9-4FC3-8DDB-6C188016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23D-1632-44EA-BF5B-9887C37E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387-1449-4463-84C4-A3E18C07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6CA-5979-4B9A-A796-EFDF2C5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209-2B42-450D-85F8-6908C86B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4DB-6A72-4892-ABA4-D82669B1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807-9D85-44FC-9C1C-9F5A0C9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E73-8226-4279-8C6B-41CD2A7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798E-148B-4198-8688-2C3AD5D0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oregonlive.com/pdxgreen/2007/09/hose.jpg&amp;imgrefurl=http://blog.oregonlive.com/pdxgreen/2007/09/&amp;usg=__8mrTX0qp9mA0nsNFUufyWx0Y0dA=&amp;h=1350&amp;w=900&amp;sz=363&amp;hl=en&amp;start=15&amp;tbnid=-OE8so_mhgHMtM:&amp;tbnh=150&amp;tbnw=100&amp;prev=/images%3Fq%3Dgarden%2Bhose%26gbv%3D2%26hl%3D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762120"/>
            <a:ext cx="807732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nformal Roman"/>
              </a:rPr>
              <a:t>Ancient Egyptian Science and Medicine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Emily Ehrl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Sara Bar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Gabbi Sto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20192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ffff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Question 1 in the Mumm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There were a lot different tools that the Ancient Egyptians used to fish out the internal org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hich one was used first to fish out pieces of the bra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4572000"/>
            <a:ext cx="2590920" cy="185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1743120" cy="1743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96080" y="762120"/>
            <a:ext cx="12384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457200"/>
            <a:ext cx="8001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Question 2 in the vocabulary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Calligraphy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is the name if the object that the Ancient Egyptians used to get water from the Nil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25444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Question 3 in the invention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rue or false? The garden hose was one of the Ancient Egyptian inventions that we still us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57560"/>
            <a:ext cx="30672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00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43434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33520"/>
            <a:ext cx="80010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Papyrus"/>
              </a:rPr>
              <a:t>The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apyrus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Papyrus"/>
              </a:rPr>
              <a:t> and final question in the astronomy categ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What is the name of the dog constellation that the Ancient Egyptians saw at about the same time that the Nile began to rise rapi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3886200"/>
            <a:ext cx="41907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60948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ank You for taking this quiz. These will be graded and anyone who gets everything right will be put into a raffle. The winner gets a priz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14600" y="274320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74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7:36:14Z</dcterms:created>
  <dc:creator>Default</dc:creator>
  <dc:description/>
  <dc:language>en-US</dc:language>
  <cp:lastModifiedBy>Default</cp:lastModifiedBy>
  <dcterms:modified xsi:type="dcterms:W3CDTF">2009-01-16T18:04:51Z</dcterms:modified>
  <cp:revision>4</cp:revision>
  <dc:subject/>
  <dc:title>Slide 1</dc:title>
</cp:coreProperties>
</file>